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469-EABB-4DF7-BDBD-0D6CCEEA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5FE9-47A4-4202-90B9-CF5AC806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BB1A6-06E9-41C6-AC4A-94815019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F87F0-0991-4675-B306-F0E863CE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EDBB1-39A9-4D1A-B426-EF7997B5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E018E-BC83-47EF-8F98-04F1F8E7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24D8F-0727-4F3D-ABA9-D8DC597F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36124-19BA-458D-8350-886144D9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0215A-D4EB-4E4F-839B-6917F7B5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FD867-77AC-49C9-A65E-98B1B218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C2FB5-A6FF-4792-9443-3DFDC436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37EDF-3C4D-4B09-A742-0D181E92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6937-6288-4243-8BDB-58BFC2EB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83B29-0716-495C-B44B-6D8C004F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4F93C-0B15-4629-A10E-321A2B4D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5DB6B-EA80-4F57-8447-A0BCA388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AC9A4-ADE8-4092-AC5A-AF4CB3C8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27A80-1CAB-4471-996D-872CF677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350E9-4880-4F8D-9BCE-E3289BD6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D0E6D-67BB-4DC1-93D4-EA9DEE9F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5F6E2-7B7E-4010-8A35-C79965F6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AB6AB-B337-42E2-A03C-BCF4E45A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2A7F9-CF42-436C-B807-85E6C941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798E-1172-45A9-8D65-39C9801E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7956D-B0D6-4C48-A4F2-2C6184F6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821CE7-FFD4-481E-B0D0-19AC92B1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2D3870-1EFD-4E1A-84E1-DA846381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67EC27-3A86-425C-9AA5-F7249E75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DF144C-D4C2-4402-9911-7DD080E7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42EDAC-A04D-4404-B6BA-D41F1DAD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CF0629-5D19-492B-9D22-8965EEFE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3371F3-53F6-4D09-8E43-4A042AF7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ED474A-239B-4352-A03D-F277630E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586242-3FDC-4CBF-AE6D-C82898E6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3A47-69DB-4864-9BA6-975B08D3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3945CA-45E5-43DB-B8F0-C21E983F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3CBBE0-5C1C-4158-BD56-1EE5DA12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E1B29F-C72B-46FD-97C9-E23A0558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948DC-A9AA-4A95-B6A0-0F799D38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D4246-C784-4E46-B4A9-E9403E81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9524F-CAEE-467C-AA6A-C759158A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6217D-8B42-4705-A0A5-2D7645E2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A0C07-D9D3-4D14-A038-9BBB7EF3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7E759-FDFE-42F2-BDD1-1121B846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9B42E-0C34-4379-9EB5-DE150B08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2A76-FBE5-4484-A7A7-DA423303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06BB4-8969-44DD-AC37-25DE1C67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B1C6D-C167-45EE-A161-47005DC1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FF939-38E9-44F7-B174-B4057590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31961-77C3-4D41-B54A-4DA2F7BD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66297-10D1-4556-AC0C-E2D61441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748C-2295-4DD5-9F00-C918778B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13FC-37C2-4219-9491-7707ED72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3E7C-2140-4448-B3AF-02208B72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7ABA-E50E-411F-A34B-EFF50039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1700-3BED-49C5-A06B-51D33802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DF04-27E9-42FD-8C80-65BC6C07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19FA-3B61-4BA2-8A4A-218AF6EF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4F58-2C7E-4504-B457-CF1FCAC5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744D-7370-423F-AED2-5990ADFC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99E4-B355-484D-8940-503DB092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D890-2AEE-40BA-8631-BF89F7E1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DBC3A-5694-452D-B7E6-12727F3C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3676B-76B7-49BA-B3A7-70654619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0ABC2-FCA2-42D4-97FB-7CBBBB2E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82035-CE9A-4918-8B2A-0B1FC47C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7C736-61D5-4B00-B97D-1B2AA9D5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4747-F727-40C2-B9C2-2ABAD508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704A8-80B5-4C63-AE11-810B3EAC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A5545-7118-427A-9A5C-1F0C1A59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33628-93D3-4C9F-9FEB-A4A346EF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2B3C2-E643-4A93-97A7-C6E284A0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F1E82-1FF3-4D95-BB1E-2EDE68F3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0809B-5B2D-4911-AA5A-BDB5F2E0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8E082-E84C-46CD-8A37-F0717823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0855D0-2CF5-4A94-A845-D61AACC9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1CE443-AB71-4A77-B86D-2EF7553D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EA49DF-F135-4D22-A3BE-E1607B05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2FF-AF96-46CD-8136-5DDDDBF7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02E8FF-5509-4342-B47E-7C65B17A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D2BC16-4F34-4D07-BB0B-9301652A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537898-10A6-4A78-9F59-F47C61EA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5016B4-E924-4E74-A10F-25B8B4F1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A8F378-67B8-458D-B514-94A70E90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844382-20E5-477E-B67E-D2018641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574934-115E-4DD0-BF1A-2B71C2C2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77A426-B68D-4FFC-B542-7424221A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C4ED46-B054-4530-B2CB-322DC0DC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7871C-3D5C-4329-B866-7DCFBBEA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2566-744B-4471-8BF8-F0926B9E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4B13C-5CF5-4C50-A2E6-86FE9837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BB574-D560-4D79-ACDC-BDDD0B1D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4E43E-6D7C-461A-80D0-B8E38AA3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31510-B91C-4F30-A1DA-332C0A61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627AA-2068-4187-BA4C-B7DED7E6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A1EF0-5049-4165-BAD2-5399679F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5078E-DE20-463C-8F57-75F1F1CD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DF529-6422-4C69-A85E-89FE540F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444DA-1CEA-4BCA-BD3C-8E313821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53102-48EE-4A1D-B87D-F9909601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0DEF-0DE5-4691-BAA2-88F51F12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9EA1A-ED46-42AD-8889-F3600F96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004B9-5388-49F3-BCBE-8DE7417E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E945A-3855-438D-A792-9FE76197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489DC-3969-4BE1-B9FD-EF552C7E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BF1A6-141F-42CB-9499-FB34C16D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7973B-9857-4F77-8CF2-69E7DDB8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49A4B-78A7-4FDA-BC84-41210B4B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2B894-AE7A-42BF-9708-D3470C3F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1688A-0BA4-4245-A6A2-8CC537E5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30BC9-2060-429A-AE3F-2E000014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22BC-AE68-4E92-ACE5-7C3D2875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BECA4-00A0-4914-BA3F-D56CB207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80EA3-60BF-48FF-85AC-50D44F1D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1571F-0F37-4B6A-8C71-4E981F62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E8915-9A66-47FE-B11F-D95495D7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A0BB7-64C6-4F36-88E4-B5872A6A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EE4B5-F246-408A-B4C3-2F21E1DA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5AB7D-8431-4D3D-9084-C45B50D4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1E11E-79BF-41F5-B7C0-C80052E8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9D26B-B965-4F32-A569-1A52E615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7B238-9F28-4CA9-A921-6C47C7D5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070E-5CF1-45D0-BDBF-9376CB9D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AEC14-3C52-4204-B3B6-513F8498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D55FF-ACD6-4DEB-9CDF-6CA25A53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01E15-ECC7-464F-A8B1-8FEDD881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30C71-B96F-4427-ADCA-0BBC053D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FAB06-8DD4-4C20-920C-177C8863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2D14D-61F3-4153-B431-8BE86166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C3C8A-8A63-43C6-8BFD-5A96AB6D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24157-8A8A-4481-AF52-A5881C99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21E7B-C631-42F8-AB0F-298B6B38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E9AAC-3767-4C03-8A0C-9F56BCAC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B31-5709-4DE7-90FE-E35F5723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4DD1D-B77D-4E0D-8E76-13F3F9D5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65FBB-72E4-45E8-9226-ED091C15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2798A-ECE0-4F21-B9A4-2611E8D8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8A723-94F4-4DF4-B489-7807AFD1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19079-D2A6-4433-9244-D3FA0AF2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0F773-04BF-4BE6-9576-0C74C604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1BB22-BF28-45A0-964C-CACD7837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02A9B-94D1-4E38-ACFF-F6AACA59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88668-6B7A-468C-BC8D-70571239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6301B-8817-4E54-A35F-C6E95ACE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75E1-89CC-4E21-B23C-66415C5EF6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4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61D7-C3C7-4351-8C94-9F7A54151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567F-0EB2-4ED6-AC87-5D09BC50A9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4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4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A0A3-9BEA-4E4B-BD1B-99EFA2DB58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A59F-A633-45C8-8DF8-7FEF1C26FA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40C5-8E6A-42EB-BCDF-566E2CEB6F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6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6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6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6BA2-36EB-463D-BBC8-B7A294FDA2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B65E-82D9-43F3-B27D-D44185300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8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CB39-9F7B-461B-B182-FA5EDF977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4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4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6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EAB7-7F3F-4C34-81B2-622F3CD91FA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1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2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A39F-865A-4313-A943-D9CF3AC68D8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9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5CA9-2DD9-4BBA-8725-C2AB5DB46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7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2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611280" y="1484280"/>
            <a:ext cx="7777080" cy="403236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ре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ужны ли нам стресс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еобходим, чтобы достичь пика в работ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Это двигатель прогресса в нашей жи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 каждого индивидуума свой пик продуктивност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Что нужно делать чтобы не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ришли к моральному срыву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алансировать свои нужд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бота о себе и других в хорошем баланс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иды стресс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Положи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свадьба, рождение ребенка, выбор профессии, любов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Отрица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нагрузка на работе, болезни, ссоры, финансовые и  семейные проблемы, смерть близких, страх, опасность, плохая окружающая сре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997000"/>
            <a:ext cx="83851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ффекты стрес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95280" y="83664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"/>
              </a:rPr>
              <a:t>РЕАКЦИЯ ОРГАНИЗМА НА ВНЕЗАПНЫЙ СТРЕСС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изический: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4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8" name="" descr=""/>
          <p:cNvPicPr/>
          <p:nvPr/>
        </p:nvPicPr>
        <p:blipFill>
          <a:blip r:embed="rId6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3851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Моральный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забывчив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сосредоточ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дражение , па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ложность принятия ре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убитое со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очар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Психически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торванность от об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выслушать друг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контролируемое время раз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ищет шу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фокусировка на отрицательном эффек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т сдержанности в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7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Духовны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теряют цель и смысл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окружающ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Бо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611280" y="1557360"/>
            <a:ext cx="8137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 предупредить стрес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8964720" y="667872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28033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4560" y="2166840"/>
            <a:ext cx="8762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Состояние,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возникающее при действии чрезвычайных или патолог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раздражителей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 приводящих к напряжению неспециф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адаптационных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механизмов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рганизм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440" y="83880"/>
            <a:ext cx="792468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РАЗУМНОЕ ПРИСПОСОБЛЕ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120"/>
            <a:ext cx="77724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5e5ff"/>
                </a:solidFill>
                <a:latin typeface="Garamond"/>
              </a:rPr>
              <a:t>ЗДОРОВЫЙ ОБРАЗ </a:t>
            </a:r>
            <a:r>
              <a:rPr b="0" lang="en-US" sz="5000" spc="-1" strike="noStrike">
                <a:solidFill>
                  <a:srgbClr val="e5e5ff"/>
                </a:solidFill>
                <a:latin typeface="Garamond"/>
              </a:rPr>
              <a:t>ЖИЗНИ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ЛАНИРОВА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 БЕСПОКОЙТЕСЬ О БУДУЩ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28240" y="16812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ЫШ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68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УШЕВНЫЙ ПОКОЙ И ИСЦЕ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78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ОМОЩЬ ДРУГИМ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Verdana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ДОВЕРИЕ БОГ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7440"/>
            <a:ext cx="77724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ХРИСТОС В СЕРДЦ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179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95280" y="2492280"/>
            <a:ext cx="8352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тресс = стрессор + реакц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132000" y="4221000"/>
            <a:ext cx="48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%                                                     90%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СЕМЬ КЛЮЧЕЙ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Стресс – это не то, что случается с нами, а то, как мы реагируем на это 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тревоги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билизация исходных си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резистентности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сопротивл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знание и борьба с не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истощ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дром приобретает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тогенный характ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619280" y="620640"/>
            <a:ext cx="648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щий адаптационный синдром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46044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ТАДИИ СТРЕ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пределяется реактивностью орган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еактивность зависит от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наследственных свойств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ранее перенесенных воздействи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возрас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692360" y="404640"/>
            <a:ext cx="6551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арактер стресс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Исход стресс-реак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врат к первоначальному состоянию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никновение боле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БОЛЕЗНИ СВЯЗАННЫЕ СО СТРЕСС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05:29:31Z</dcterms:created>
  <dc:creator>cb</dc:creator>
  <dc:description/>
  <dc:language>en-US</dc:language>
  <cp:lastModifiedBy>cb</cp:lastModifiedBy>
  <dcterms:modified xsi:type="dcterms:W3CDTF">2006-03-19T18:34:47Z</dcterms:modified>
  <cp:revision>13</cp:revision>
  <dc:subject/>
  <dc:title>Стресс</dc:title>
</cp:coreProperties>
</file>